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AD1-2D49-4481-BCC4-54E1665E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ADF-363C-4C7C-B83A-05656AA3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DB5-9123-4747-8DDE-7C0FCE26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FEA-7AA2-498D-A02D-0C375AD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245-703D-4D8A-9B21-E2882C06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954-CD29-434A-BA64-CC2778D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E60-A794-47CC-A387-5F6391C4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778-9ED2-476A-B682-837F7062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726-55D1-4EBE-B59B-9CB1A2CD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473-5069-47A3-B3C5-55B0054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0A2-5AC6-4DEA-A8C9-F3831A1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79D-CB02-4997-B88B-01CEC7E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9FFA-5917-426B-A6B1-0EEDB5B77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20360" y="87480"/>
            <a:ext cx="4704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قُلوبَنَ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اسْكُن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خَلّصْنا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أجْسَاد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أشْرِق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َنَوِّرْ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4760" y="87480"/>
            <a:ext cx="483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 أرواح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حَرِّر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قَدّسْن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َق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22560" y="87480"/>
            <a:ext cx="470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ُب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6:26Z</dcterms:modified>
  <cp:revision>9</cp:revision>
  <dc:subject/>
  <dc:title>PowerPoint Presentation</dc:title>
</cp:coreProperties>
</file>